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D64-6DE4-4CE5-B3D0-298FE343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95E-F056-44CD-B8A3-9BB17FE1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F83-0577-486A-B22D-15D15E6C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D5F-6951-4E50-8A2F-198DC4F6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044-7783-4194-B383-238179C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17D-9659-42CB-940B-B3028820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0A8-F008-45ED-925B-5907A05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06C-45EE-4CFC-A6A8-1986CD46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1C5-0BA6-46AD-902C-94DA71FD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5AC-D7E0-4F94-BD66-6EAE9DE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1CC-4155-434D-933D-4C043BA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C45-D3C9-4061-B982-0D14AECA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4C2F-BBA7-4436-9032-7AA8C1EA4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DAGASZKÁ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400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ájegység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et: keskeny tengerparti sáv, mögötte dús trópusi őserdőv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épső része: nagyrészt fennsík, sokkal hűvösebb időjárás uralkodik, időnként még hó is esi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gati partvidék: síkságok találh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l-nyugati szeglet: itt szinte soha nem esik es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átnivalók, nevezetesség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ananar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úfolt és szennyezett. Számos különleges látnivaló található i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akely: utcai árus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ute Ville negyed: éttermek, night club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ma piac: arab pia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ikus- és állatk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554200"/>
            <a:ext cx="40384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sy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ső számú üdülőszi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randjairól nevez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okobe park, Mont Pass, Kráter tavak vidé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16360" y="2717640"/>
            <a:ext cx="41036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Arial"/>
              </a:rPr>
              <a:t>Tsingy de Bemara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észetvédelmi terület,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ilágörökség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vezőtúrá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nambolo Gorge Park: vízesés, érintetlen dzsung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70320" y="1628640"/>
            <a:ext cx="2846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Arial"/>
              </a:rPr>
              <a:t>Montagne d'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zeti P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látogatottabb rés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övényvilág, állatvil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10280" y="3938760"/>
            <a:ext cx="291312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92720" y="1569960"/>
            <a:ext cx="2519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ztronó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zs játssza a főszere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úsétel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mazava: marhaszelet zöldségkörett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vitoto: sertéshúsból készült é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több ételt achards-szal, finom, csípős, zöldségszósszal tálalj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ngeri halból készült specialitás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zotikus gyümölcsfajt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vé, sör, helyi bor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izsből és cukornádból készült rum, toaka grasy, kókuszból készült trembo, gyümölcsökből préselt litch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R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tíváció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koturizmus: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ngerparti nyaralás, pihenés: 1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ulturális turizmus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ort turizmus: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éb: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Ökoturizm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mu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d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öv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nnyűbúvárkodás: koralzáto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6720" y="1644480"/>
            <a:ext cx="3095640" cy="204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0280" y="3938760"/>
            <a:ext cx="29131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ulturális tur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i emberek élete, hagyománya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nyhó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írkö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aragott totemoszlo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va pal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88000" y="2435400"/>
            <a:ext cx="388944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DAGASZKÁR  TÖRTÉNEL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agaszkárt két hullámban népesítették be a különböző néptörzs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-XIV. század között a maláj szigetvilágból, Afrika keleti partjairól  bevándorlók, afrikai rabszolgák, európai kalózok és arab utazó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XVII. századig franciák, hollandok, portugálok, angolok. Végül a franciák győzt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alandtur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gymás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úrá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fting: Ny-i partvidé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nu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torlá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27640" y="2374920"/>
            <a:ext cx="3816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zsgálat szerint a turisták 67%-a akkor járt itt elősz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évente: családlátogatás, tudó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radék ritkábban j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zezonali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többen szeptember – december között 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úlius – augusztus között  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kevesebben februá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látogatottabb rész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len: 3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szakon: 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eten: 1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ugaton: 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okozódó érdeklődés Madagaszkár irá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rcius 11-én, a Budapesti Francia Intézet épületében a Frankofón közösséghez tartózó országok tartottak kóstolással egybekötött bemutatkozó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dagaszkár idén már harmadszor szerepelt a kiállítók közö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átogatók számának folyamatos növekedése is mutatja, hogy az érdeklődés egyre nő a hazánknál hatszor nagyobb szigetország irá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rszág kormánya ezt felismerve 2006. januárjában konzulátust nyitott Budapes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zteletbeli konzulnak, az MMBT elnökét nevezték 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lépéssel várhatóan tovább élénkül a két ország kapcsolata kulturális, kereskedelmi és turisztikai téren egyará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rmány jelentős erőfeszítéseket tesz az elmaradott ország infrastruktúrájának fejlesztése és a gazdaság fellendítése érdek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at segíthetne az ország helyzetén és páratlan természeti értékeinek megőrzésében a felelősségteljes ökoturizmus erősödése is, mely megállíthatná a sziget felbecsülhetetlen értékű esőerdőinek felégetését, egyedülálló élővilágának pusztulásá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 törekszenek, hogy a turistaérkezések száma, ami jelenleg 170 000, 2007-re elérhesse akár az 500 000-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ltalános 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őváros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ntananar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vatalos nyelv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algas,fr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mforma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öztársa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üggetlenség dátuma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1960. június 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ület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587.040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pesség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17.501.871 f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psűrűség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31 fő/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DP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16.3 mrd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 főre jutó GDP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911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nznem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algasi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lás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örzsi 52%, keresztény 41%, muzulmán 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dagaszkár zászl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1958. október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vörös,fehér: monarchia    szín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zöld: betelepült part menti népeket jelképe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szimbolikus jelentés: a fehér az eszmék tisztaságát, a vörös a függetlenséget, a zöld a reményt és a boldog jövőt jelképez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032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zleke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asút hossza: 883 k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thálózat: 49 837 km, 10% szilárd burkola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pülőterek szám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3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rosokon belül: riksa, minibusz, ta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lföldi vízi közlekedés nem jellemz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554200"/>
            <a:ext cx="40384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zda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gény és fejlet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akosság többsége a mezőgazdaságban dolgozik, de csak 80%-uk képes megteremteni élelmiszer-szükségleté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75% él a létminimum alat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0% rendelkezik elektromos árammal és folyóvíz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% rendelkezik WC-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ányászat, cukorfinomítás, tengeri élelmiszerek feldolg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fontosabb iparág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őolaj-finom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elmiszeri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i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gyár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hányi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ézműip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ereskedelmi partner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aorsz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émetorszá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ingapú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gfontosabb exportcikk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ávé, szegfűszeg, vanília – 1. h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ágakövek, féldrágakövek, grafit, csillám, krómérc, cukor, hús, szizá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1:08:06Z</dcterms:created>
  <dc:creator>Macika</dc:creator>
  <dc:description/>
  <dc:language>en-US</dc:language>
  <cp:lastModifiedBy>Macimasina</cp:lastModifiedBy>
  <dcterms:modified xsi:type="dcterms:W3CDTF">2006-04-29T08:43:59Z</dcterms:modified>
  <cp:revision>39</cp:revision>
  <dc:subject/>
  <dc:title>MADAGASZKÁR</dc:title>
</cp:coreProperties>
</file>